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LASER.WAV" ContentType="audio/x-wav"/>
  <Override PartName="/ppt/media/image24.wmf" ContentType="image/x-wmf"/>
  <Override PartName="/ppt/media/hzipup01.wav" ContentType="audio/x-wav"/>
  <Override PartName="/ppt/media/image1.wmf" ContentType="image/x-wmf"/>
  <Override PartName="/ppt/media/image31.wmf" ContentType="image/x-wmf"/>
  <Override PartName="/ppt/media/image25.wmf" ContentType="image/x-wmf"/>
  <Override PartName="/ppt/media/gunshot.wav" ContentType="audio/x-wav"/>
  <Override PartName="/ppt/media/image2.wmf" ContentType="image/x-wmf"/>
  <Override PartName="/ppt/media/image32.wmf" ContentType="image/x-wmf"/>
  <Override PartName="/ppt/media/chimes.wav" ContentType="audio/x-wav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30.wmf" ContentType="image/x-wmf"/>
  <Override PartName="/ppt/media/camera.wav" ContentType="audio/x-wav"/>
  <Override PartName="/ppt/media/image40.gif" ContentType="image/gif"/>
  <Override PartName="/ppt/media/image43.wmf" ContentType="image/x-wmf"/>
  <Override PartName="/ppt/media/image44.wmf" ContentType="image/x-wmf"/>
  <Override PartName="/ppt/media/image45.wmf" ContentType="image/x-wmf"/>
  <Override PartName="/ppt/media/carbrake.wav" ContentType="audio/x-wav"/>
  <Override PartName="/ppt/media/image42.wmf" ContentType="image/x-wmf"/>
  <Override PartName="/ppt/media/cashreg.wav" ContentType="audio/x-wav"/>
  <Override PartName="/ppt/media/ricochet.wav" ContentType="audio/x-wav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WHOOSH.WAV" ContentType="audio/x-wav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A59-7373-4E33-9744-B837AD3F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3BC-A448-4F6D-AC61-27FA743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5E1-25E4-4AF7-809E-05996E21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E5D-6E0D-4BC9-B107-48E3D260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FE3-1BB9-41EA-A262-0359E9D0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2CC-C624-4D5A-9C69-C508495F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88C-C625-4553-AA4D-C7CE38C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3A0-0B6B-4A0F-9082-13049B01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BBA3-8148-4301-A511-DB8440B7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A08-A506-46A9-AC83-6B1B37B2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91A-F874-43C2-B28E-5D8CCED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406-ABFD-4134-8D4B-85ABFD03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A16C-3EDC-4842-AE25-49A7524B8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5.wmf"/><Relationship Id="rId24" Type="http://schemas.openxmlformats.org/officeDocument/2006/relationships/audio" Target="../media/camera.wav"/><Relationship Id="rId25" Type="http://schemas.openxmlformats.org/officeDocument/2006/relationships/audio" Target="../media/chimes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LASER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WHOOSH.WAV"/><Relationship Id="rId32" Type="http://schemas.openxmlformats.org/officeDocument/2006/relationships/audio" Target="../media/cashreg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gunshot.wav"/><Relationship Id="rId37" Type="http://schemas.openxmlformats.org/officeDocument/2006/relationships/audio" Target="../media/ricochet.wav"/><Relationship Id="rId38" Type="http://schemas.openxmlformats.org/officeDocument/2006/relationships/audio" Target="../media/gunshot.wav"/><Relationship Id="rId39" Type="http://schemas.openxmlformats.org/officeDocument/2006/relationships/audio" Target="../media/ricochet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carbrake.wav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image" Target="../media/image46.wmf"/><Relationship Id="rId7" Type="http://schemas.openxmlformats.org/officeDocument/2006/relationships/image" Target="../media/image43.wmf"/><Relationship Id="rId8" Type="http://schemas.openxmlformats.org/officeDocument/2006/relationships/image" Target="../media/image19.wmf"/><Relationship Id="rId9" Type="http://schemas.openxmlformats.org/officeDocument/2006/relationships/image" Target="../media/image47.wmf"/><Relationship Id="rId10" Type="http://schemas.openxmlformats.org/officeDocument/2006/relationships/image" Target="../media/image46.wmf"/><Relationship Id="rId11" Type="http://schemas.openxmlformats.org/officeDocument/2006/relationships/image" Target="../media/image46.wmf"/><Relationship Id="rId12" Type="http://schemas.openxmlformats.org/officeDocument/2006/relationships/image" Target="../media/image43.wmf"/><Relationship Id="rId13" Type="http://schemas.openxmlformats.org/officeDocument/2006/relationships/image" Target="../media/image19.wmf"/><Relationship Id="rId14" Type="http://schemas.openxmlformats.org/officeDocument/2006/relationships/image" Target="../media/image48.wmf"/><Relationship Id="rId15" Type="http://schemas.openxmlformats.org/officeDocument/2006/relationships/audio" Target="../media/chimes.wav"/><Relationship Id="rId16" Type="http://schemas.openxmlformats.org/officeDocument/2006/relationships/audio" Target="../media/hzipup01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gunshot.wav"/><Relationship Id="rId22" Type="http://schemas.openxmlformats.org/officeDocument/2006/relationships/audio" Target="../media/ricochet.wav"/><Relationship Id="rId23" Type="http://schemas.openxmlformats.org/officeDocument/2006/relationships/audio" Target="../media/gunshot.wav"/><Relationship Id="rId24" Type="http://schemas.openxmlformats.org/officeDocument/2006/relationships/audio" Target="../media/ricochet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carbrake.wav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1752480"/>
          <a:ext cx="395604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956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362320" y="2362320"/>
          <a:ext cx="947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3623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809880" y="2362320"/>
          <a:ext cx="94788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447920" y="304812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14600" y="3048120"/>
          <a:ext cx="8352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04812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2767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886200" y="3048120"/>
          <a:ext cx="5014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30481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59092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43200" y="3657600"/>
          <a:ext cx="5014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365760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3657600"/>
          <a:ext cx="5014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365760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39880" y="4398840"/>
          <a:ext cx="55728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39880" y="439884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76720" y="4390920"/>
          <a:ext cx="55692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90920"/>
                    <a:ext cx="556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809880" y="4343400"/>
          <a:ext cx="4460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4343400"/>
                    <a:ext cx="446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70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3341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486400"/>
            <a:ext cx="17524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752480"/>
          <a:ext cx="417816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4178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9478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809880" y="2362320"/>
          <a:ext cx="94788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3623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447920" y="304812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0" y="3048120"/>
          <a:ext cx="100188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3048120"/>
                    <a:ext cx="1001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2767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09880" y="3048120"/>
          <a:ext cx="836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04812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4476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59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7004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004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3552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552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84440" y="4398840"/>
          <a:ext cx="668520" cy="557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84440" y="4398840"/>
                    <a:ext cx="6685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362480"/>
          <a:ext cx="55692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62480"/>
                    <a:ext cx="556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9880" y="4343400"/>
          <a:ext cx="55728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9880" y="4343400"/>
                    <a:ext cx="557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104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990360" y="5486400"/>
            <a:ext cx="37335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Inequalities Using More Than One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7400" y="1670040"/>
          <a:ext cx="401004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670040"/>
                    <a:ext cx="40100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066680" y="2362320"/>
          <a:ext cx="122724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362320"/>
                    <a:ext cx="122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429000" y="2362320"/>
          <a:ext cx="12254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362320"/>
                    <a:ext cx="1225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447920" y="29718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13000" y="2965320"/>
          <a:ext cx="94608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3000" y="2965320"/>
                    <a:ext cx="9460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2767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754440" y="3048120"/>
          <a:ext cx="9478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54440" y="3048120"/>
                    <a:ext cx="947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44476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9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70040" y="3657600"/>
          <a:ext cx="557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7004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35520" y="3657600"/>
          <a:ext cx="5572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3552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666880" y="4419720"/>
          <a:ext cx="557280" cy="725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4419720"/>
                    <a:ext cx="557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276720" y="4362480"/>
          <a:ext cx="556920" cy="67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362480"/>
                    <a:ext cx="556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4343400"/>
          <a:ext cx="8366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4343400"/>
                    <a:ext cx="836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990720" y="5257800"/>
            <a:ext cx="5105160" cy="459720"/>
            <a:chOff x="990720" y="5257800"/>
            <a:chExt cx="5105160" cy="459720"/>
          </a:xfrm>
        </p:grpSpPr>
        <p:sp>
          <p:nvSpPr>
            <p:cNvPr id="138" name=""/>
            <p:cNvSpPr/>
            <p:nvPr/>
          </p:nvSpPr>
          <p:spPr>
            <a:xfrm>
              <a:off x="990720" y="54864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52578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914400" y="5562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   -2     -1      0  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3341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5486400"/>
            <a:ext cx="33526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1752480"/>
          <a:ext cx="32860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28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00400" y="2362320"/>
          <a:ext cx="8935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0400" y="2362320"/>
                    <a:ext cx="893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19320" y="236232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362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447920" y="29718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3048120"/>
          <a:ext cx="5018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048120"/>
                    <a:ext cx="501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133720" y="3048120"/>
          <a:ext cx="5569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04812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11440" y="3103560"/>
          <a:ext cx="947880" cy="5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11440" y="3103560"/>
                    <a:ext cx="947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67984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7200" y="3657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3657600"/>
          <a:ext cx="8352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36576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295280" y="3657600"/>
          <a:ext cx="83520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3657600"/>
                    <a:ext cx="835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295280" y="4343400"/>
          <a:ext cx="892440" cy="66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95280" y="4343400"/>
                    <a:ext cx="8924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33720" y="4389480"/>
          <a:ext cx="556920" cy="61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33720" y="4389480"/>
                    <a:ext cx="556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30600" y="4398840"/>
          <a:ext cx="557280" cy="559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30600" y="439884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838080" y="5791320"/>
            <a:ext cx="5105160" cy="459720"/>
            <a:chOff x="838080" y="5791320"/>
            <a:chExt cx="5105160" cy="459720"/>
          </a:xfrm>
        </p:grpSpPr>
        <p:sp>
          <p:nvSpPr>
            <p:cNvPr id="172" name=""/>
            <p:cNvSpPr/>
            <p:nvPr/>
          </p:nvSpPr>
          <p:spPr>
            <a:xfrm>
              <a:off x="838080" y="601992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0360" y="57913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62120" y="60958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-3     -2      -1     0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86728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6019920"/>
            <a:ext cx="33530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3880" y="4952880"/>
          <a:ext cx="1895760" cy="669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4952880"/>
                    <a:ext cx="18957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1752480"/>
          <a:ext cx="50133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5013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743200" y="2286000"/>
          <a:ext cx="94932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2860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468680" y="2286000"/>
          <a:ext cx="9464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22860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447920" y="297180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14600" y="2971800"/>
          <a:ext cx="128268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971800"/>
                    <a:ext cx="1282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733920" y="3021120"/>
          <a:ext cx="55692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0211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191120" y="2971800"/>
          <a:ext cx="12808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2971800"/>
                    <a:ext cx="1280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743200" y="365760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65760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87760" y="3657600"/>
          <a:ext cx="94752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87760" y="365760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440240" y="3657600"/>
          <a:ext cx="94608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40240" y="36576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62160" y="4398840"/>
          <a:ext cx="557280" cy="559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62160" y="4398840"/>
                    <a:ext cx="557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33920" y="4361040"/>
          <a:ext cx="556920" cy="672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361040"/>
                    <a:ext cx="5569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357800" y="4343400"/>
          <a:ext cx="50148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57800" y="4343400"/>
                    <a:ext cx="5014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1143000" y="5334120"/>
            <a:ext cx="5105160" cy="459720"/>
            <a:chOff x="1143000" y="5334120"/>
            <a:chExt cx="5105160" cy="459720"/>
          </a:xfrm>
        </p:grpSpPr>
        <p:sp>
          <p:nvSpPr>
            <p:cNvPr id="208" name=""/>
            <p:cNvSpPr/>
            <p:nvPr/>
          </p:nvSpPr>
          <p:spPr>
            <a:xfrm>
              <a:off x="1143000" y="556272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5280" y="533412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66680" y="56386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2      3       4       5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541008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5562720"/>
            <a:ext cx="1143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ing or Dividing by a Negativ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371600"/>
          <a:ext cx="406548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406548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151080" y="2743200"/>
          <a:ext cx="8938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51080" y="274320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191120" y="2743200"/>
          <a:ext cx="89064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7432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738440" y="3449520"/>
            <a:ext cx="3809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819520" y="3200400"/>
          <a:ext cx="1171440" cy="17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3200400"/>
                    <a:ext cx="117144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886200" y="3733920"/>
          <a:ext cx="5572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343400" y="373392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806480" y="3538440"/>
          <a:ext cx="1449360" cy="105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06480" y="3538440"/>
                    <a:ext cx="1449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648320" y="3505320"/>
          <a:ext cx="1670040" cy="105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3505320"/>
                    <a:ext cx="167004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352680" y="4952880"/>
          <a:ext cx="557280" cy="725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52680" y="4952880"/>
                    <a:ext cx="55728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86200" y="4800600"/>
          <a:ext cx="557280" cy="673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4800600"/>
                    <a:ext cx="557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8320" y="4821120"/>
          <a:ext cx="50148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4821120"/>
                    <a:ext cx="5014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" name=""/>
          <p:cNvGrpSpPr/>
          <p:nvPr/>
        </p:nvGrpSpPr>
        <p:grpSpPr>
          <a:xfrm>
            <a:off x="1295280" y="5715000"/>
            <a:ext cx="5105160" cy="459720"/>
            <a:chOff x="1295280" y="5715000"/>
            <a:chExt cx="5105160" cy="459720"/>
          </a:xfrm>
        </p:grpSpPr>
        <p:sp>
          <p:nvSpPr>
            <p:cNvPr id="240" name=""/>
            <p:cNvSpPr/>
            <p:nvPr/>
          </p:nvSpPr>
          <p:spPr>
            <a:xfrm>
              <a:off x="1295280" y="5943600"/>
              <a:ext cx="510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7560" y="5715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219320" y="6019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2      3       4       5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5791320"/>
            <a:ext cx="304920" cy="30456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218960" y="5929200"/>
            <a:ext cx="380988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562720" y="375444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219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. You wash dishes in a restaurant and ear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4.6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er hour. How many hours must you work to make at leas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0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o buy a new snowbo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3886200"/>
          <a:ext cx="133668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86200"/>
                    <a:ext cx="1336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200400" y="2971800"/>
          <a:ext cx="473040" cy="525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971800"/>
                    <a:ext cx="4730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0" y="26668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2666880"/>
            <a:ext cx="14479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Hourly W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666880"/>
            <a:ext cx="28195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Hours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431040" y="2881440"/>
          <a:ext cx="620640" cy="73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31040" y="2881440"/>
                    <a:ext cx="620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7086600" y="2666880"/>
            <a:ext cx="1676520" cy="1068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esired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828800" y="3809880"/>
          <a:ext cx="557280" cy="722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28800" y="3809880"/>
                    <a:ext cx="5572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362320" y="3886200"/>
          <a:ext cx="556920" cy="666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362320" y="3886200"/>
                    <a:ext cx="55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819520" y="3886200"/>
          <a:ext cx="1170000" cy="666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19520" y="3886200"/>
                    <a:ext cx="11700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204920" y="457200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7400" y="457200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54000" y="4572000"/>
          <a:ext cx="1338480" cy="668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54000" y="4572000"/>
                    <a:ext cx="1338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819520" y="4572000"/>
          <a:ext cx="1334880" cy="668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819520" y="4572000"/>
                    <a:ext cx="1334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523880" y="5229360"/>
          <a:ext cx="557280" cy="726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523880" y="5229360"/>
                    <a:ext cx="5572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195640" y="5275440"/>
          <a:ext cx="556920" cy="672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195640" y="5275440"/>
                    <a:ext cx="5569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666880" y="5257800"/>
          <a:ext cx="1227240" cy="671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66880" y="5257800"/>
                    <a:ext cx="12272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0" y="58672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You need to work at least 4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562720" y="375444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2193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. You wash dishes in a restaurant and ear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5.15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er hour. How many hours must you work to make at leas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$240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to buy a new snowbo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2666880"/>
            <a:ext cx="8763120" cy="1068840"/>
            <a:chOff x="0" y="2666880"/>
            <a:chExt cx="8763120" cy="1068840"/>
          </a:xfrm>
        </p:grpSpPr>
        <p:graphicFrame>
          <p:nvGraphicFramePr>
            <p:cNvPr id="283" name=""/>
            <p:cNvGraphicFramePr/>
            <p:nvPr/>
          </p:nvGraphicFramePr>
          <p:xfrm>
            <a:off x="3200400" y="2971800"/>
            <a:ext cx="473040" cy="525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00400" y="2971800"/>
                      <a:ext cx="4730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5" name=""/>
            <p:cNvSpPr/>
            <p:nvPr/>
          </p:nvSpPr>
          <p:spPr>
            <a:xfrm>
              <a:off x="0" y="266688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2666880"/>
              <a:ext cx="14479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Hourly W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81280" y="2666880"/>
              <a:ext cx="28195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Number of Hours Work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6431040" y="2881440"/>
            <a:ext cx="620640" cy="731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31040" y="2881440"/>
                      <a:ext cx="62064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7086600" y="2666880"/>
              <a:ext cx="1676520" cy="10688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Desired Inco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615960" y="3914640"/>
            <a:ext cx="1170000" cy="666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1676520" y="3838680"/>
            <a:ext cx="556920" cy="722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2209680" y="3914640"/>
            <a:ext cx="557280" cy="666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2666880" y="3886200"/>
            <a:ext cx="1170000" cy="6667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052640" y="4600440"/>
            <a:ext cx="977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05120" y="460044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0"/>
          <a:stretch/>
        </p:blipFill>
        <p:spPr>
          <a:xfrm>
            <a:off x="884160" y="4600440"/>
            <a:ext cx="1171800" cy="668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749680" y="4600440"/>
            <a:ext cx="1168200" cy="668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1371600" y="5257800"/>
            <a:ext cx="557280" cy="727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3"/>
          <a:stretch/>
        </p:blipFill>
        <p:spPr>
          <a:xfrm>
            <a:off x="2043000" y="5303880"/>
            <a:ext cx="557280" cy="673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4"/>
          <a:stretch/>
        </p:blipFill>
        <p:spPr>
          <a:xfrm>
            <a:off x="2514600" y="5257800"/>
            <a:ext cx="1281240" cy="671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57913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You need to work at least 47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3-11-03T13:38:49Z</dcterms:modified>
  <cp:revision>21</cp:revision>
  <dc:subject/>
  <dc:title>PowerPoint Presentation</dc:title>
</cp:coreProperties>
</file>